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1F61-26AB-42B1-98D3-D6C3F5A1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291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C2A2-20E0-453B-B022-BE4DA076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4A9-44F6-40BE-A11A-D5CA7501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762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291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87E7-120C-4A39-9910-D03C7370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CBD-5A58-4C90-A8E1-2C3594B0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39E5-37A6-4C04-924A-8A84CAE7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3671-A91E-4202-A6DB-8147420F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61A3-1350-4D35-8BEA-7D649D96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1BCA-1138-485C-A686-8D0D5C46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AF4C-7015-41C5-AD83-EE274BA5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291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E61A-F4D6-4FDA-82BC-A8F7BFBD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291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AA45-17D8-498C-90E5-81D6AC88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C826-4147-4785-A45C-1030FA299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Adorat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your children are writt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n your hands: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are a m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neither forg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r forsakes her 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Isaiah 49:15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efore we were born, you knew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our mothers’ womb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formed us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bbe0e3"/>
                </a:solidFill>
                <a:latin typeface="Arial"/>
              </a:rPr>
              <a:t>Psalm 139: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Before all beginning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ou called us by n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Beyond all endings,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ou will remember us in you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bbe0e3"/>
                </a:solidFill>
                <a:latin typeface="Arial"/>
              </a:rPr>
              <a:t>Psalm 139: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, O Wisdom, do not forg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childr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ike a hen, you gather your chicks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creation is he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in your very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ee Matthew 23:37; Luke 13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27:00Z</dcterms:created>
  <dc:creator>Anon Anon</dc:creator>
  <dc:description/>
  <dc:language>en-US</dc:language>
  <cp:lastModifiedBy>Anon Anon</cp:lastModifiedBy>
  <dcterms:modified xsi:type="dcterms:W3CDTF">2005-08-09T05:06:22Z</dcterms:modified>
  <cp:revision>11</cp:revision>
  <dc:subject/>
  <dc:title>Prayer of Adoration (SLD-2)</dc:title>
</cp:coreProperties>
</file>